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D79-4AC2-4EC4-857A-E91B2CD8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D58-B42D-43A3-B499-5E70EFA0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26E01-4378-4692-9221-12D8EEC8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55A6D-E94F-4565-865D-B95BD92E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3F40F-0B21-498B-A5E1-82EF2291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88605-4256-47F2-99E2-AF7792B9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D989B-C90F-4C1F-86D0-4892D7EF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AC494-BA54-4193-AB03-A7600301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C5189-E10E-4DC8-B33F-7B876607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15C98-45E1-485E-AEAE-862E90BA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4880C-7B1B-4152-B23B-ACD97D95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821E6-36EA-428A-BF84-56D9FDA3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C25-D057-4529-8908-268A9510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9E509-D70F-4C39-887E-E8EACDD5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D5D90-A163-4779-8E5C-59E118A9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2ED35-945C-4C6F-8E59-9E58830C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3A8D4-FBE3-4B97-8834-F27DC546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C2932-4065-4947-B6B5-DAE5EFC1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8B30B-4A5A-4888-B80F-9B0A26E6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7C0C6-7931-41F0-8566-73116350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9AFA0-6628-4D71-8697-EB5FC92C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EC12C-039B-4657-9EFC-408E8BC9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D55EB-5310-48E1-A80E-23200DB3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98A-2A05-497E-A551-A6592BD5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8C1BF-9104-4510-AA97-C82341D3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7527E-4368-46ED-AC42-01F0705F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49899-8704-424F-A83E-5EF704A5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A5D71-89B9-418B-927C-06BC71BD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9E8D4-9A07-4C72-87AA-C5A26C18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D741A-BD8B-4F9C-95A4-A5A7F4E5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F4ABF-E03B-4FB3-ADAC-219BF829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827D5-8427-4273-9B0C-229E1D08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6636C-8A3B-4E82-9466-6EC64FD3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B0C19-CC91-417C-A493-090C8C5E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56F1-15F9-45AC-889D-18C693D9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A78F6-7720-4470-9064-B1322C0E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F2F7C-E38C-44C3-9EFF-8C8F54ED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9CBD1-C1AF-4767-BA33-907426D9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5D46C-89AB-492F-863B-FE77FD66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6510D-4B72-4F5A-9946-78939DBC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E44FE-16F9-4D76-A555-5B4A43FE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42078-8C76-4D13-829F-888BB5A5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C2C69-EA6E-49D0-9F32-7BFFEC00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4A182-BD19-4C14-805C-3CA87785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0C308-999B-433E-B82C-9CD6BD6A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3928-F725-41B7-8560-F66076A8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06E18-D85A-4C76-BBE3-96569948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4B946-4DAE-42D5-AC4F-86009B7C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F0670-84EF-429E-8F6E-6C18C4F1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206A4-EA69-4C6C-9846-9A6B433C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FCBD6-D147-4547-A203-FFF44864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80428F-0D61-4E02-A507-BC1879EC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2F1AB-BB63-4109-A5AE-D5DC5064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782B4-05C2-4E6E-AA7C-AD684414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6AADD-0FB7-4814-955F-C3F102C9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9812F-C8D9-4DBF-9816-A6ECEED3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0D06-3578-47FA-A19E-CE424EA2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574DED-D5D0-416B-BE8F-E65E9E22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154FF-0241-421F-8FE1-FAC5D04E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8DCB8-88D2-45EF-8723-D021CEA3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05E29-EE70-4CCC-9CA8-E7D02E10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672E80-1563-4D8F-A9AE-FE7616D9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5E174-FD5A-4A9B-85E0-96B4A2D3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5D25C-489D-4608-BDD2-A780E7CC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B6617F-C903-487C-8BB8-24212D63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895B14-1C17-4B5C-8300-A30261F4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0CB29C-B305-4BAD-A600-87253C4E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E2E9-3844-4358-899D-668E2FCC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54B37B-A4D7-45E7-95F1-0B41ABEC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A048F9-2E64-48F6-A7C6-7FDEFF70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8C960-A628-4DF3-BEE9-E2649A0A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0D56D-3DC0-469A-AD6E-2D6F795F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71224-F53D-4756-86FC-5E45F52B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DD57B9-DD99-49B8-AFDE-DE24A565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A08881-10F9-4502-9748-7E85B2F1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BB767-1A08-4E9C-82B1-1F71EE7A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1B0E1-EA4A-455F-B49D-5828D818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0F4527-DD7B-4D81-9B02-0A28D4A7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25FB-0029-4C1F-A5A2-6CEDC21B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E1344F-22F2-4E43-AE84-B2075837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9F9699-38AF-4E49-B8EB-AA32887E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0925AB-6309-4483-875B-41DA3D12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97C2C0-B7A0-430B-9B8D-62D2C14D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B73DF9-5289-4EFF-B131-4BBB6854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C456F2-42BD-44C5-BAFD-35361546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6AC4F1-4710-401E-80C2-275E2A14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9FED97-DB07-4ECD-9769-02297571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3C9D99-4791-4760-B684-6C66C06A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C87CC7-EC9A-469C-A40D-5DEABCF2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DB25-2E30-4C66-82F3-19B4198D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356120-1F2A-48C3-BED6-5A007D1D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93C1A6-9F92-47F0-94F4-2716ED85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5E6F8B-3952-43AD-9145-FF50469E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AAF637-B69E-4F19-BB5C-CA13B4DF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95A650-01D7-44E0-8CD0-90C0D27B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43CF38-6EEB-4120-B483-01C509C1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678CD-69F2-40D8-A7B7-7A22AECF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62AD26-59D3-4DF5-B4FC-41657030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0C7E3A-8856-481C-B94C-F4282FDF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EA31CC-FD02-4D82-BA69-3F62DD1A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53CE-1383-4F74-AF7F-97161DDF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5ABFD8-BCF0-41B1-86F5-4D23513E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AC853E-6C73-4083-9CAD-F2A22368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14EF28-3A76-4BD4-8FE5-8159336A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BBB065-9578-49F7-BFF1-287DD4A6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006725-07D7-4AC2-88E3-DD7B03B7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825CD7-6933-4395-AF0A-9332B12D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BBD4CE-9367-4176-B119-5D628FFC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FC886A-DCF2-483F-B7F4-4CBE0257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58494C-96FF-4E26-92BA-037EB566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EFEA66-0293-4CDC-A764-9E6A5708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0929-A706-40C6-83CD-BB55C3EC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0D71-E2E8-4E4F-A54E-9647879E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EA0A46-3D32-4557-AC51-BFEEFA0A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5E122F-AC2E-4311-A8E1-9084C81C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2292AB-D80C-48DE-90E2-7B2AEFF4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19C84D-8880-4B73-80A0-1A7131A4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14DD45-8C59-4954-BA55-8E7AA83D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2A3A3B-7BA6-4403-9389-CA3B5A7F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CE6A48-A96F-4CE5-A240-7C8E91C7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0C2BBA-2CC3-4CF6-9480-E7D19FEC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A82A0E-385B-4F07-84DE-CA7B0E0F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BF5AD5-6BD4-43F0-BAF9-DAC31D1E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D5C0-1837-4C82-AD54-26B3829E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64607E-F921-4E0A-9E99-EFBB4913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4D20A5-4503-4E3F-8A47-3DC85E21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C4CE2C-CB92-45B7-AB1D-83DF60BB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CF430E-29C8-485E-9A85-2664D176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0D2748-1322-43A0-8C82-768F6636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EC1A21-CDD9-4337-BC3E-1903711D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0FF5EC-7877-4A11-B3C3-BDCDC54A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C8A4EC-3C56-4504-8AC3-583BA0F0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5E87FC-5BE6-4536-BC24-EED9A59B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F6082A-676C-4B58-A221-081276AA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1411-F96B-4ACC-898F-F2E2C9A8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74541C-C3F4-434F-BC07-68632FB7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134782-B65B-4632-AB9F-3B0FDC74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9C702B-5556-4AD8-A12F-F5DC7A47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D12261-661A-40F8-A739-268F7365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68FAC1-2ADA-4B3B-AB57-1DE3D4C8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91767B-F0CD-4D98-90DA-43511BE0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B8A4BC-4923-419B-AA93-C969FF9F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D9BEDD-F6D5-495B-8CED-FF038D99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1ECBDE-0A36-46BF-90C1-5802A6A4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4CA77C-900B-4B2F-A076-4312A63D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8C29-A4E9-4671-954F-3C21C5AE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D75AA1-34A9-49B6-8DAA-76986AD3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A2377A-0168-4AB5-A063-AF74E9DF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F62BC1-8CC1-4052-8BCE-11BDA7A8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118931-0437-4DD0-B5BA-39BEBF2B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3A2112-CED1-48EF-83AD-DD051A91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82B252-E148-48AD-A3B2-631AE263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1B47AE-3A05-4BC2-8387-F2828D7D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3D4B90-63EA-4C15-B15D-25765183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54BA14-4460-4377-A4B1-F10ED163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32A6F4-2B63-4B0A-9E74-66B80636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D153-52D4-4209-9FDE-5A167B86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E08D8F-FB03-4870-8FA4-34B3D1A5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274DED-FC17-4259-B765-AB4A549D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D21986-89EE-412A-AEA8-AFCB7865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33B4E6-0817-4255-85FC-4F10A6FC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800093-DDA9-4F2F-9177-2E49C6D2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4B8D23-F90E-4CA5-897D-85FD235A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B9BF66-D8A8-42EF-9742-E41D7AB5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6DBDAC-EA6C-42AF-8B7B-215FED5B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168910-1CBA-462F-A596-0D5EE21A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9A9417-01DF-4C54-8F38-0B67CDE4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7E0E0-FE17-487D-AB3D-610B224F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37142C-F47A-4407-A6D7-11B4E18D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ADD7C8-60F2-4C48-B255-2ED4A229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AD04B9-77B1-47AA-8FB0-6628735C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CD2085-0E3B-4959-BE67-EFC327B4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E47EBF-48E7-4324-97E9-19C483CD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5E225A-6EB8-4C9D-8B16-15F2918C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0E052C-B7FD-402F-8B51-DDAE5399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2DF720-69EC-4AEF-BFBE-42B1F203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94122C-45A2-461B-8754-841AC7F8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2F8B07-F357-48CA-BD1E-2E2F4DD0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9496C-42DE-4895-8D72-EA61DE99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131C3B-D78C-4D55-A257-16B2A915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8189CB-237D-4723-9B30-255FD0E5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B6ED9E-6927-4FC8-A0D6-76207845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96E165-453A-4F07-9AFB-AAF05472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FD051C-A985-403C-9CA4-347412D1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B745A-E727-4F26-8B6B-EFDDD795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88A4A-1FB7-48F1-8830-B1554D42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72967-57AE-411B-B935-55AC442F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1467-98C1-486E-ACE7-0945E28B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3E478-6B5E-454C-AA47-59A1D9D5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21FE9-1B88-4A13-8A9F-F7DA0A73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72A71-0DE9-4B01-B729-87688608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5C09C-1982-439F-B748-80A455C5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7716E-53DA-4117-A4F0-098FB998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7EBB3-EE59-4A14-AF75-DD40E1EA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C4560-A97B-4977-BD60-571E2183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9EB59-DDA6-449E-B5E9-EDF1BC46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3E2A1-A4FD-47B3-9249-8BCA7484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0712D-4BC4-416E-8F2F-5108A57A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F72-6E1A-4FD5-B79D-768568D4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04108-3501-4322-80A5-B2368C6B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E8501-9E80-4696-BC0D-CE46F5E7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393AB-9AF6-498D-AED5-7B731F48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E6EB1-33E3-4224-8E91-50EE847A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4BFE5-5301-4BEE-8B37-0BE04F79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9A073-7E2B-4CFE-AD26-84472145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4E54A-CD8E-405D-B766-62BA6511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9BF82-C77B-403E-AAED-EBA655B3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4CE1C-41B7-4082-B188-8FACED22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DF7B3-C9C8-4EFD-939E-2C0CAC45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3D1-9F6B-4A59-ADF8-486EDD19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EED52-342F-4A28-ADAD-39593F4E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95521-2B6E-4E4A-BEF9-50413EDE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74D7A-835C-4A89-B0B9-61220FE3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22983-2A85-419C-9A70-93B3634A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639D5-55E1-40A0-9B8F-649A191C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667FE-7BBD-457A-8FB3-479C803C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948FF-2298-4DC5-BB5A-C00186B5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3090C-5BAD-412D-94E2-96CE761A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4FE28-A405-4C93-BA38-E4733443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F9A2B-85E0-4AA0-AFEF-E957A9D8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9FB5-9DB2-4F11-88F9-D7DFE824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F0E6A-91A6-4423-AE90-0BB48A5C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24738-099D-4261-82FF-20C7275F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687E9-B4AC-42EF-9F1F-39E04974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0F791-7B79-4BD5-AB9C-96500037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B8A4D-A38D-496A-813C-C50CC8D8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7A768-41F0-4834-97B4-C4511ACC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E7861-3FFC-4024-B2B8-BEC3F505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32059-7110-4E6C-B35C-6C9611AB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0BF85-3292-4027-8C1A-FF635FDC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B16B1-DD61-42F1-B807-DC12213F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C03-B6CC-498C-8858-3ACA21E0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B275E-8C4F-47D5-B880-1B35CD10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82B6F-4B86-4F13-B743-8727A159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CD2D4-F01A-40FA-9F97-8D48E1F2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676C2-C698-42AF-975B-F89692EA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F417F-227F-4BD6-9837-172A6EB0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EDD16-E421-4EBD-9096-85CD7611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6CE30-5995-480A-AFA4-335DB023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6B315-773B-4F97-AA2D-46B0F7C0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D0CC6-E3BB-4F29-830A-CD0AAB4E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8FB10-DCCA-45BD-86FA-4B3DB8CE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F2A-0B2B-4F7D-9ABB-DF39DE7D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1F7D8-8D95-4929-9FC2-479E6F0E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ABE2B-AC06-4176-B551-8F1DD511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CE2C3-1C13-4C57-8C01-68C542DE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8F9D4-9437-4CDD-8964-507A08C2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28361-AC03-4E17-A2F3-287F7529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23C1F-5236-4DC6-AA6F-22DAA933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73AFC-5AD1-4277-82AA-8D173EBA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FD54A-13A8-4FB2-9DE0-EEEA80AE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2429B-4734-4D7B-8AC9-7575849A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4FD7A-70ED-4FE7-8662-1B97A08D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F6B-8301-4A75-B617-4C8D7911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366FA-0092-4784-AFC4-51C3E35A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BA781-5518-45F8-AF83-FAF90E15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811F9-0B85-4879-9C97-972E81A3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BE2B7-775B-4DAB-81D8-C9DFDAEB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FF88E-39EF-4BDD-8EFC-63D81D5C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4F3BD-42B5-4FE3-BC22-606A445A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C3505-4A5B-482C-8F15-CF1A002A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6F64C-7EDC-4C8B-BE7B-EBD62748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8540F-56F7-406E-ADF1-F2BCFF01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C216D-3684-4B88-8E23-A53EF1BF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5956-D726-458D-8D84-F1B397841F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9E7A-0DE4-451D-8956-047610AA95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6EE1-FAE4-4EC1-B7AD-1C067CE138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D157-AC02-4A60-92E7-986F1DC7A7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0C02-6E60-4AFC-A077-6D34C60975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942F-19A6-4D5C-B683-3AAAEB0DD1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DF88-A192-4231-A19E-1D7DDA04FC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A698-F140-40DF-8BFC-A161A9C1A3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21C9-13C4-458D-9EAB-C270C14131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C77F-C61F-4B34-A680-9C148C960C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4755-8ADE-45E4-9B81-8F09FA5B43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6BE2-469D-4BEA-BCA0-2132E4A161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8E9A-EB51-4111-900D-FBC70F8A61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8643-0DC4-4FFB-81A3-76B66EE97C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E121-DC7F-44FE-BE83-85CA9217CD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C049-5126-4C77-A735-6AA4EE2DD8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2B52-CDD6-4A97-906B-AAC04277DD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FE1C-3795-4489-A300-F2C170F8FB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A543-EDA0-47CA-A4CE-09824CE0A5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A7B1-6A9A-4A38-9697-40C2BEF1AC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10D2-5F5B-4FAE-B152-96D3813AAC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F40B-4ACA-42AA-A6AE-5BC0A243D46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65A3-80B1-4022-8A9D-E33EC3AB21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1561-86C9-4E50-80D5-52711758C0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65BB-2BC9-43CF-B49B-4D9C57D6E6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42A8-80A0-4933-AC79-F963F146B8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C602-F3AA-4861-A6AB-2DCC1A227F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06BD-3958-4B9A-B991-3D68056A02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0CCB-6343-4A81-BC2E-1A78424875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32CA-A3DB-4C5F-A143-684B826041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037A-C665-4EDA-9BA3-168BB0398E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D3E9-EB71-443E-B4DC-43479DDAD4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38AC-DF71-4C90-AC4F-2E7895316D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15D8-2F08-4FE5-94A0-DBF05F8048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E26A-7A67-4063-952B-3D0FAC3687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6465-FFA7-4687-A8EF-97ABCDB248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05A4-4614-4797-AE11-24848924E6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2A2D-E1EB-4FA5-996A-7C9274B444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8466-0763-4B92-8BDB-AC77DA0618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E578-16AD-4581-9DA1-0DF83967BC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FB27-7CF6-4FD9-AE9D-00DE10F259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909720" y="2733840"/>
            <a:ext cx="7324560" cy="13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262080" y="976320"/>
            <a:ext cx="8619840" cy="490536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146" descr=""/>
          <p:cNvPicPr/>
          <p:nvPr/>
        </p:nvPicPr>
        <p:blipFill>
          <a:blip r:embed="rId2"/>
          <a:stretch/>
        </p:blipFill>
        <p:spPr>
          <a:xfrm>
            <a:off x="1116000" y="2162160"/>
            <a:ext cx="2190600" cy="129528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6148" descr=""/>
          <p:cNvPicPr/>
          <p:nvPr/>
        </p:nvPicPr>
        <p:blipFill>
          <a:blip r:embed="rId3"/>
          <a:stretch/>
        </p:blipFill>
        <p:spPr>
          <a:xfrm>
            <a:off x="3909960" y="2103480"/>
            <a:ext cx="2305080" cy="134316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6149" descr=""/>
          <p:cNvPicPr/>
          <p:nvPr/>
        </p:nvPicPr>
        <p:blipFill>
          <a:blip r:embed="rId4"/>
          <a:stretch/>
        </p:blipFill>
        <p:spPr>
          <a:xfrm>
            <a:off x="6659640" y="2116080"/>
            <a:ext cx="2066760" cy="13431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1908000" y="3573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4716360" y="3573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7451640" y="3573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1763640" y="5516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6315120" y="5530680"/>
            <a:ext cx="3585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7169" descr=""/>
          <p:cNvPicPr/>
          <p:nvPr/>
        </p:nvPicPr>
        <p:blipFill>
          <a:blip r:embed="rId1"/>
          <a:stretch/>
        </p:blipFill>
        <p:spPr>
          <a:xfrm>
            <a:off x="581040" y="1585800"/>
            <a:ext cx="7981920" cy="36864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4356000" y="23335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6804000" y="2349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2700360" y="3284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5076720" y="3284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7"/>
          <a:stretch/>
        </p:blipFill>
        <p:spPr>
          <a:xfrm>
            <a:off x="2268360" y="4422600"/>
            <a:ext cx="790920" cy="3193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8"/>
          <a:stretch/>
        </p:blipFill>
        <p:spPr>
          <a:xfrm>
            <a:off x="4859280" y="4394160"/>
            <a:ext cx="79056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9"/>
          <a:stretch/>
        </p:blipFill>
        <p:spPr>
          <a:xfrm>
            <a:off x="7596360" y="4394160"/>
            <a:ext cx="790560" cy="318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0"/>
          <a:stretch/>
        </p:blipFill>
        <p:spPr>
          <a:xfrm>
            <a:off x="2195640" y="4797360"/>
            <a:ext cx="790560" cy="3193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1"/>
          <a:stretch/>
        </p:blipFill>
        <p:spPr>
          <a:xfrm>
            <a:off x="4859280" y="4811760"/>
            <a:ext cx="790560" cy="3189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12"/>
          <a:stretch/>
        </p:blipFill>
        <p:spPr>
          <a:xfrm>
            <a:off x="7596360" y="4811760"/>
            <a:ext cx="7905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图片 8193" descr=""/>
          <p:cNvPicPr/>
          <p:nvPr/>
        </p:nvPicPr>
        <p:blipFill>
          <a:blip r:embed="rId1"/>
          <a:stretch/>
        </p:blipFill>
        <p:spPr>
          <a:xfrm>
            <a:off x="566640" y="1962000"/>
            <a:ext cx="8010720" cy="29340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2"/>
          <a:stretch/>
        </p:blipFill>
        <p:spPr>
          <a:xfrm>
            <a:off x="3578400" y="34146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3"/>
          <a:stretch/>
        </p:blipFill>
        <p:spPr>
          <a:xfrm>
            <a:off x="4081320" y="338616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4"/>
          <a:stretch/>
        </p:blipFill>
        <p:spPr>
          <a:xfrm>
            <a:off x="4614840" y="33861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5"/>
          <a:stretch/>
        </p:blipFill>
        <p:spPr>
          <a:xfrm>
            <a:off x="5710320" y="34005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6"/>
          <a:stretch/>
        </p:blipFill>
        <p:spPr>
          <a:xfrm>
            <a:off x="6213600" y="33861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7"/>
          <a:stretch/>
        </p:blipFill>
        <p:spPr>
          <a:xfrm>
            <a:off x="7280280" y="33861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8"/>
          <a:stretch/>
        </p:blipFill>
        <p:spPr>
          <a:xfrm>
            <a:off x="7812000" y="33861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9"/>
          <a:stretch/>
        </p:blipFill>
        <p:spPr>
          <a:xfrm>
            <a:off x="3851280" y="37306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10"/>
          <a:stretch/>
        </p:blipFill>
        <p:spPr>
          <a:xfrm>
            <a:off x="7093080" y="3716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11"/>
          <a:stretch/>
        </p:blipFill>
        <p:spPr>
          <a:xfrm>
            <a:off x="3635280" y="41641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12"/>
          <a:stretch/>
        </p:blipFill>
        <p:spPr>
          <a:xfrm>
            <a:off x="4932360" y="4149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13"/>
          <a:stretch/>
        </p:blipFill>
        <p:spPr>
          <a:xfrm>
            <a:off x="3924360" y="4595760"/>
            <a:ext cx="3585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17:0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